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EDE0-6676-4E9E-A9B3-97A804077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1201-4964-4256-8D25-0F7AC284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3019-3B7D-40EB-B885-C062F7038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F9CD-0942-4955-9931-D7AD33989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5463-3979-4A7A-B510-FA262CBC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1924-245E-4BDD-99AC-4D1B33A3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C437-1775-43D8-9BE8-F5AF2BA0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534A-5571-4C60-926E-511F025A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8350-7A91-49D5-8275-79F2DF3E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86AD-C5DB-417E-998D-9F628ABA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C395-0A68-4A41-8FF5-3059CAD9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1311-4DC2-44A1-862E-9C1CE8E5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66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E763-B9AA-4CE6-882D-DB77EED4E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eb.mit.edu/invent/iow/mars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66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62920" y="53910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h March 11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447920" y="1295280"/>
            <a:ext cx="640080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80008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&amp;M</a:t>
            </a:r>
            <a:endParaRPr b="0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80008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50000">
              <a:srgbClr val="660066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Mars"/>
          <p:cNvPicPr/>
          <p:nvPr/>
        </p:nvPicPr>
        <p:blipFill>
          <a:blip r:embed="rId1"/>
          <a:srcRect l="46667" t="0" r="0" b="11440"/>
          <a:stretch/>
        </p:blipFill>
        <p:spPr>
          <a:xfrm>
            <a:off x="0" y="0"/>
            <a:ext cx="9144000" cy="2362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Mars"/>
          <p:cNvPicPr/>
          <p:nvPr/>
        </p:nvPicPr>
        <p:blipFill>
          <a:blip r:embed="rId2"/>
          <a:stretch/>
        </p:blipFill>
        <p:spPr>
          <a:xfrm>
            <a:off x="5943600" y="2362320"/>
            <a:ext cx="3200400" cy="4495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5029200"/>
            <a:ext cx="39625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Ma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onday, February 28, 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mar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66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Forrest E. Mars, Sr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ush Script MT"/>
              </a:rPr>
              <a:t>Forrest was born on March 21,1904 in Minnesota and raised in Canada after his parents divor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ush Script MT"/>
              </a:rPr>
              <a:t>His father Frank C. Mars, had been operating a successful candy business of his own in Chica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ush Script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ush Script MT"/>
              </a:rPr>
              <a:t>From this company, Mars, inc, establish in franks home  in Tacoma Washington in 1911,came the ever popular Snickers, Milky way, Three Muskete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ush Script MT"/>
              </a:rPr>
              <a:t>He also set up a small candy factory in Eng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ush Script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ush Script MT"/>
              </a:rPr>
              <a:t>Mars retired from Mars, Inc, In 1993 and stared a new company Ethel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ush Script MT"/>
              </a:rPr>
              <a:t>Mars died in July 1,1999 at the age of 95. At the time of his death his estimated worth 4 bill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66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M&amp;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ush Script MT"/>
              </a:rPr>
              <a:t>In 1940 Mars concocted his own version of candy coated chocolate drops took them to Hersh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ush Script MT"/>
              </a:rPr>
              <a:t>The design was patented on March 3,1941 that year M&amp;M went on s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ush Script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rush Script MT"/>
              </a:rPr>
              <a:t>In, 1954 M&amp;M peanut chocolate  candy introduced and black M&amp;M impring was change to wh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ush Script MT"/>
              </a:rPr>
              <a:t>By 1958,demand for M&amp;M had surpassed 1 million pounds for we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ush Script MT"/>
              </a:rPr>
              <a:t>M&amp;M’S were also the official candy at the 1984 Olympics in Los Ange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8:26:49Z</dcterms:created>
  <dc:creator>install</dc:creator>
  <dc:description/>
  <dc:language>en-US</dc:language>
  <cp:lastModifiedBy>install</cp:lastModifiedBy>
  <dcterms:modified xsi:type="dcterms:W3CDTF">2011-03-11T18:32:03Z</dcterms:modified>
  <cp:revision>13</cp:revision>
  <dc:subject/>
  <dc:title>Slide 1</dc:title>
</cp:coreProperties>
</file>